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2A4E-4886-42CE-9FE8-8769A79F8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E120-41A2-4A6A-87FB-EE80325F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4637-2156-4D02-AF0B-1FC978AA4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7C91-F0D3-492D-84BD-5AC0F333B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56BB-7EFA-4C22-B108-66F9B5408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DB30-7975-4E69-B1C7-A5E56571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22C9-4E71-4523-8DFB-BBD6CE70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7059-E136-498F-A8E5-E7855BAC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DC89-F246-4DB8-9A0D-E25E90DC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A528-B0BC-48F0-9649-7AC44EDA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F7B9-9048-43C0-94F8-16AA1446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566E-1D17-466E-A762-8A25F5DE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52B3-4D83-4558-A6A2-72899C74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0AE1-88BF-4A50-A4C6-943A6719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D126-4D93-4C5F-A4E3-ED6AE051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8869-9FE3-4DEF-8C02-F1E47F561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385B-5F7B-4865-BC8D-D00EA42C2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F35A-8DE6-42A4-9209-978C7519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1E4F-2048-497C-BDE4-91334E16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362C-36AC-49D6-B650-291DBFEB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DAB8-7CBD-4543-9F97-BBF52EA6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783D-7AF3-426F-B957-CA709A86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5029-ACA5-4574-8698-877AE4B6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B405-C3F7-4122-A9E6-32152DCA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A8B4-E44A-4BA3-91EF-FC5A98299A8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4F45-EFCD-46B1-ACAF-DAFA0AE1DDF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30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полнил ученик 6 класса Петр Иван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28760" y="14997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личественные :                                   Порядковые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ри, пять.                                                третий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яты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3071880" y="2571840"/>
            <a:ext cx="333360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14360" y="268200"/>
            <a:ext cx="841212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28760" y="15714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тому что одни обозначают числа, а другие – порядок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714240" y="3071880"/>
            <a:ext cx="2665440" cy="3571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3"/>
          <a:stretch/>
        </p:blipFill>
        <p:spPr>
          <a:xfrm>
            <a:off x="5214960" y="3357720"/>
            <a:ext cx="3057480" cy="32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63748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меняются по падежам и родам, а простое числительное ОДИН еще и по числам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уква Ь пишется в числительных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конце: от 5 до 20 и в 30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середине: от 50 до 80 и от 500 до 900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пишется в середине: 15,16,17,18,19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8540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Целые : два, сорок семь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робные : три четверы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бирательные : двое, семер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учив тему «Имя числительное как часть речи», мы узнали, что числительные бывают простыми, сложными и составными. Научились правильно писать их, узнали много нового о количественных числительны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ad</cp:lastModifiedBy>
  <dcterms:modified xsi:type="dcterms:W3CDTF">2010-04-16T14:18:09Z</dcterms:modified>
  <cp:revision>9</cp:revision>
  <dc:subject/>
  <dc:title>Имя числительное как Часть речи. </dc:title>
</cp:coreProperties>
</file>